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35990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19160" y="685440"/>
            <a:ext cx="4819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B6B1-BCA0-44B7-A8EB-305B29CA24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019160" y="685800"/>
            <a:ext cx="481968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C8C8-1D57-419A-A276-0269558E96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019160" y="685800"/>
            <a:ext cx="481968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82CA-A8A8-49C4-87B7-332BA42E03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019160" y="685800"/>
            <a:ext cx="481968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94D4-3A01-4B53-B165-C5C49E37C70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019160" y="685800"/>
            <a:ext cx="481968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EE8C-1998-44F5-BABB-DC4923530C2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19160" y="685800"/>
            <a:ext cx="481968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E7C7-3AEB-46CE-9D66-B4B287B9917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19160" y="685800"/>
            <a:ext cx="481968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51E0-7FBA-4975-BEE2-E28A170E13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19160" y="685800"/>
            <a:ext cx="481968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CA74-D10C-427F-AC88-2CB2C032E3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019160" y="685800"/>
            <a:ext cx="481968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146F-3DA4-4608-B747-3990E6EB0C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703-45CC-47AD-B1D3-93DA30A5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558440"/>
            <a:ext cx="84236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3575880"/>
            <a:ext cx="84236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3BF-EF1A-41B3-8E74-3EC91617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55844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4400" y="155844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357588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4400" y="357588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D5B-6D3C-4983-AD6F-4451B188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558440"/>
            <a:ext cx="2712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320" y="1558440"/>
            <a:ext cx="2712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4640" y="1558440"/>
            <a:ext cx="2712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3575880"/>
            <a:ext cx="2712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320" y="3575880"/>
            <a:ext cx="2712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4640" y="3575880"/>
            <a:ext cx="2712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792-F24D-4F84-AC67-E5027DB1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558440"/>
            <a:ext cx="84236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438-217F-425B-AFC9-F3656F9D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558440"/>
            <a:ext cx="84236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062-D04B-4747-AA90-290C43EB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558440"/>
            <a:ext cx="411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4400" y="1558440"/>
            <a:ext cx="411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29F-4B1A-4855-AA4B-0846987E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958-3952-4BCD-AF3C-19AFEBEF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65680"/>
            <a:ext cx="84236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6A6-4AD2-48DE-ADB6-70732C55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55844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4400" y="1558440"/>
            <a:ext cx="411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357588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8B4-A7EF-40AA-B981-A5DFFF2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558440"/>
            <a:ext cx="4110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4400" y="155844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4400" y="357588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DB0-4577-4CC0-B4D3-4DCFF606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65680"/>
            <a:ext cx="84236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55844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4400" y="1558440"/>
            <a:ext cx="4110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3575880"/>
            <a:ext cx="84236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C7C-D613-4B53-A3FB-13F0F7A7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kimhyeonjin.BKL\Downloads\GettyimagesBank_a10445874_Small_PNG.png"/>
          <p:cNvPicPr/>
          <p:nvPr/>
        </p:nvPicPr>
        <p:blipFill>
          <a:blip r:embed="rId2"/>
          <a:stretch/>
        </p:blipFill>
        <p:spPr>
          <a:xfrm>
            <a:off x="-30240" y="0"/>
            <a:ext cx="9399600" cy="6669000"/>
          </a:xfrm>
          <a:prstGeom prst="rect">
            <a:avLst/>
          </a:prstGeom>
          <a:ln w="0">
            <a:noFill/>
          </a:ln>
        </p:spPr>
      </p:pic>
      <p:sp>
        <p:nvSpPr>
          <p:cNvPr id="1" name="직사각형 11"/>
          <p:cNvSpPr/>
          <p:nvPr/>
        </p:nvSpPr>
        <p:spPr>
          <a:xfrm>
            <a:off x="247680" y="274680"/>
            <a:ext cx="8800920" cy="582480"/>
          </a:xfrm>
          <a:prstGeom prst="rect">
            <a:avLst/>
          </a:prstGeom>
          <a:solidFill>
            <a:srgbClr val="e9e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68360" y="6173640"/>
            <a:ext cx="21844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8C55-12C5-420C-BCF6-E29D127484DC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97160" y="6173640"/>
            <a:ext cx="2967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708600" y="6173640"/>
            <a:ext cx="21844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8DB-73E5-4D0A-AF6A-56108D53ECF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" name="그림 2" descr=""/>
          <p:cNvPicPr/>
          <p:nvPr/>
        </p:nvPicPr>
        <p:blipFill>
          <a:blip r:embed="rId3"/>
          <a:stretch/>
        </p:blipFill>
        <p:spPr>
          <a:xfrm>
            <a:off x="8136000" y="6251400"/>
            <a:ext cx="1011240" cy="244800"/>
          </a:xfrm>
          <a:prstGeom prst="rect">
            <a:avLst/>
          </a:prstGeom>
          <a:ln w="0">
            <a:noFill/>
          </a:ln>
        </p:spPr>
      </p:pic>
      <p:sp>
        <p:nvSpPr>
          <p:cNvPr id="6" name="L 도형 8"/>
          <p:cNvSpPr/>
          <p:nvPr/>
        </p:nvSpPr>
        <p:spPr>
          <a:xfrm rot="5400000">
            <a:off x="142920" y="183600"/>
            <a:ext cx="449280" cy="439920"/>
          </a:xfrm>
          <a:custGeom>
            <a:avLst/>
            <a:gdLst>
              <a:gd name="textAreaLeft" fmla="*/ 0 w 449280"/>
              <a:gd name="textAreaRight" fmla="*/ 449640 w 449280"/>
              <a:gd name="textAreaTop" fmla="*/ 332640 h 439920"/>
              <a:gd name="textAreaBottom" fmla="*/ 440280 h 439920"/>
            </a:gdLst>
            <a:ahLst/>
            <a:rect l="textAreaLeft" t="textAreaTop" r="textAreaRight" b="textAreaBottom"/>
            <a:pathLst>
              <a:path w="449262" h="439737">
                <a:moveTo>
                  <a:pt x="0" y="0"/>
                </a:moveTo>
                <a:lnTo>
                  <a:pt x="99653" y="0"/>
                </a:lnTo>
                <a:lnTo>
                  <a:pt x="99653" y="332322"/>
                </a:lnTo>
                <a:lnTo>
                  <a:pt x="449262" y="332322"/>
                </a:lnTo>
                <a:lnTo>
                  <a:pt x="449262" y="439737"/>
                </a:lnTo>
                <a:lnTo>
                  <a:pt x="0" y="439737"/>
                </a:lnTo>
                <a:close/>
              </a:path>
            </a:pathLst>
          </a:custGeom>
          <a:solidFill>
            <a:srgbClr val="0065b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kimhyeonjin.BKL\Downloads\GettyimagesBank_a10481899_Small_PNG.png"/>
          <p:cNvPicPr/>
          <p:nvPr/>
        </p:nvPicPr>
        <p:blipFill>
          <a:blip r:embed="rId1"/>
          <a:stretch/>
        </p:blipFill>
        <p:spPr>
          <a:xfrm>
            <a:off x="-30240" y="-6480"/>
            <a:ext cx="9387000" cy="6675480"/>
          </a:xfrm>
          <a:prstGeom prst="rect">
            <a:avLst/>
          </a:prstGeom>
          <a:ln w="0">
            <a:noFill/>
          </a:ln>
        </p:spPr>
      </p:pic>
      <p:sp>
        <p:nvSpPr>
          <p:cNvPr id="51" name="직사각형 1"/>
          <p:cNvSpPr/>
          <p:nvPr/>
        </p:nvSpPr>
        <p:spPr>
          <a:xfrm>
            <a:off x="-27000" y="4856040"/>
            <a:ext cx="9381960" cy="1282680"/>
          </a:xfrm>
          <a:prstGeom prst="rect">
            <a:avLst/>
          </a:prstGeom>
          <a:solidFill>
            <a:srgbClr val="0065b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478320" y="4957920"/>
            <a:ext cx="235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016. 06. 13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정</a:t>
            </a: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원 영 변호사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법무법인</a:t>
            </a: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유한</a:t>
            </a: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 </a:t>
            </a:r>
            <a:r>
              <a:rPr b="1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태평양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제목 1"/>
          <p:cNvSpPr/>
          <p:nvPr/>
        </p:nvSpPr>
        <p:spPr>
          <a:xfrm>
            <a:off x="1459080" y="2322360"/>
            <a:ext cx="6408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185da8"/>
                </a:solidFill>
                <a:latin typeface="맑은 고딕"/>
              </a:rPr>
              <a:t>침해소송과 심결취소소송의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185da8"/>
                </a:solidFill>
                <a:latin typeface="맑은 고딕"/>
              </a:rPr>
              <a:t>조화로운 운영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직사각형 5"/>
          <p:cNvSpPr/>
          <p:nvPr/>
        </p:nvSpPr>
        <p:spPr>
          <a:xfrm>
            <a:off x="289080" y="306360"/>
            <a:ext cx="49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58ed5"/>
                </a:solidFill>
                <a:latin typeface="Lucida Handwriting"/>
              </a:rPr>
              <a:t>2016 Bench &amp; Bar Conferenc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직사각형 6"/>
          <p:cNvSpPr/>
          <p:nvPr/>
        </p:nvSpPr>
        <p:spPr>
          <a:xfrm>
            <a:off x="1530360" y="196200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eelawadee"/>
                <a:ea typeface="Leelawadee"/>
              </a:rPr>
              <a:t>3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Leelawadee"/>
                <a:ea typeface="Leelawadee"/>
              </a:rPr>
              <a:t>rd</a:t>
            </a:r>
            <a:r>
              <a:rPr b="0" i="1" lang="en-US" sz="1800" spc="-1" strike="noStrike">
                <a:solidFill>
                  <a:srgbClr val="000000"/>
                </a:solidFill>
                <a:latin typeface="Leelawadee"/>
                <a:ea typeface="Leelawadee"/>
              </a:rPr>
              <a:t> Sess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4897440" y="613908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발표내용은 발표자의 개인 견해이며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소속  법무법인 및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KIPLA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의 공식 견해와 무관합니다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슬라이드 번호 개체 틀 9"/>
          <p:cNvSpPr/>
          <p:nvPr/>
        </p:nvSpPr>
        <p:spPr>
          <a:xfrm>
            <a:off x="4464000" y="6278400"/>
            <a:ext cx="43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2275-9821-4126-8C76-41EF3132B352}" type="slidenum">
              <a:rPr b="0" lang="ko-KR" sz="1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제목 1"/>
          <p:cNvSpPr/>
          <p:nvPr/>
        </p:nvSpPr>
        <p:spPr>
          <a:xfrm>
            <a:off x="390600" y="306360"/>
            <a:ext cx="8826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1. </a:t>
            </a:r>
            <a:r>
              <a:rPr b="1" lang="ko-KR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주장∙증거의 제출 기회 제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직사각형 82"/>
          <p:cNvSpPr/>
          <p:nvPr/>
        </p:nvSpPr>
        <p:spPr>
          <a:xfrm>
            <a:off x="360360" y="3691080"/>
            <a:ext cx="86407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동일한 법원에서 이루어지는 심결취소소송에 대하여 새로운 주장이나 증거의 제출을 제한할 법적인 근거가 없음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병행심리의 경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결취소소송에서는 새로운 주장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증거를 제출하지 못한 채로 판결이 이루어지나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에서는 새로운 주장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•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증거가 제출되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두 소송에서 상이한 결론에 이르게 될 가능성도 있음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정의 발명에 대하여 처음이자 마지막으로 사실심 법원의 판단을 받을 기회이므로 주장 및 증거의 기회를 제한하지 말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일회성으로 해결하는 것이 바람직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60" name="TextBox 4"/>
          <p:cNvGrpSpPr/>
          <p:nvPr/>
        </p:nvGrpSpPr>
        <p:grpSpPr>
          <a:xfrm>
            <a:off x="298440" y="920880"/>
            <a:ext cx="7967520" cy="658800"/>
            <a:chOff x="298440" y="920880"/>
            <a:chExt cx="7967520" cy="658800"/>
          </a:xfrm>
        </p:grpSpPr>
        <p:pic>
          <p:nvPicPr>
            <p:cNvPr id="61" name="TextBox 4" descr=""/>
            <p:cNvPicPr/>
            <p:nvPr/>
          </p:nvPicPr>
          <p:blipFill>
            <a:blip r:embed="rId1"/>
            <a:stretch/>
          </p:blipFill>
          <p:spPr>
            <a:xfrm>
              <a:off x="298440" y="920880"/>
              <a:ext cx="79675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60360" y="954000"/>
              <a:ext cx="7848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현재의 제도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63" name="TextBox 5"/>
          <p:cNvSpPr/>
          <p:nvPr/>
        </p:nvSpPr>
        <p:spPr>
          <a:xfrm>
            <a:off x="360360" y="1601640"/>
            <a:ext cx="885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의 항소심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결취소소송에서의 새로운 주장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증거의 제출에 제한이 없음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64" name="TextBox 6"/>
          <p:cNvGrpSpPr/>
          <p:nvPr/>
        </p:nvGrpSpPr>
        <p:grpSpPr>
          <a:xfrm>
            <a:off x="298440" y="2225520"/>
            <a:ext cx="7967520" cy="663840"/>
            <a:chOff x="298440" y="2225520"/>
            <a:chExt cx="7967520" cy="663840"/>
          </a:xfrm>
        </p:grpSpPr>
        <p:pic>
          <p:nvPicPr>
            <p:cNvPr id="65" name="TextBox 6" descr=""/>
            <p:cNvPicPr/>
            <p:nvPr/>
          </p:nvPicPr>
          <p:blipFill>
            <a:blip r:embed="rId2"/>
            <a:stretch/>
          </p:blipFill>
          <p:spPr>
            <a:xfrm>
              <a:off x="298440" y="2225520"/>
              <a:ext cx="796752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60360" y="2260440"/>
              <a:ext cx="7848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심결취소소송에서의 주장</a:t>
              </a:r>
              <a:r>
                <a:rPr b="0" lang="en-US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•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증거의 제출 기회 제한 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67" name="직사각형 7"/>
          <p:cNvSpPr/>
          <p:nvPr/>
        </p:nvSpPr>
        <p:spPr>
          <a:xfrm>
            <a:off x="360360" y="2898720"/>
            <a:ext cx="864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결취소소송은 행정청인 특허심판원에서 이루어진 심결 자체의 타당성여부를 판단하는 것이라는 측면에서는 주장증거의 제출이 제한되어야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슬라이드 번호 개체 틀 9"/>
          <p:cNvSpPr/>
          <p:nvPr/>
        </p:nvSpPr>
        <p:spPr>
          <a:xfrm>
            <a:off x="4464000" y="6278400"/>
            <a:ext cx="43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3423-6A2B-4925-BA10-79DDE0273749}" type="slidenum">
              <a:rPr b="0" lang="ko-KR" sz="1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제목 1"/>
          <p:cNvSpPr/>
          <p:nvPr/>
        </p:nvSpPr>
        <p:spPr>
          <a:xfrm>
            <a:off x="390600" y="306360"/>
            <a:ext cx="8826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2. </a:t>
            </a:r>
            <a:r>
              <a:rPr b="1" lang="ko-KR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절차의 병행과 중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70" name="TextBox 5"/>
          <p:cNvGrpSpPr/>
          <p:nvPr/>
        </p:nvGrpSpPr>
        <p:grpSpPr>
          <a:xfrm>
            <a:off x="298440" y="920880"/>
            <a:ext cx="7967520" cy="609480"/>
            <a:chOff x="298440" y="920880"/>
            <a:chExt cx="7967520" cy="609480"/>
          </a:xfrm>
        </p:grpSpPr>
        <p:pic>
          <p:nvPicPr>
            <p:cNvPr id="71" name="TextBox 5" descr=""/>
            <p:cNvPicPr/>
            <p:nvPr/>
          </p:nvPicPr>
          <p:blipFill>
            <a:blip r:embed="rId1"/>
            <a:stretch/>
          </p:blipFill>
          <p:spPr>
            <a:xfrm>
              <a:off x="298440" y="920880"/>
              <a:ext cx="7967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60360" y="954000"/>
              <a:ext cx="7848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병행심리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aphicFrame>
        <p:nvGraphicFramePr>
          <p:cNvPr id="73" name=""/>
          <p:cNvGraphicFramePr/>
          <p:nvPr/>
        </p:nvGraphicFramePr>
        <p:xfrm>
          <a:off x="360360" y="1817640"/>
          <a:ext cx="1584360" cy="1482840"/>
        </p:xfrm>
        <a:graphic>
          <a:graphicData uri="http://schemas.openxmlformats.org/drawingml/2006/table">
            <a:tbl>
              <a:tblPr/>
              <a:tblGrid>
                <a:gridCol w="284040"/>
                <a:gridCol w="652680"/>
                <a:gridCol w="647640"/>
              </a:tblGrid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무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침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그림 7" descr=""/>
          <p:cNvPicPr/>
          <p:nvPr/>
        </p:nvPicPr>
        <p:blipFill>
          <a:blip r:embed="rId2"/>
          <a:stretch/>
        </p:blipFill>
        <p:spPr>
          <a:xfrm>
            <a:off x="2521080" y="1962000"/>
            <a:ext cx="604836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Box 8"/>
          <p:cNvSpPr/>
          <p:nvPr/>
        </p:nvSpPr>
        <p:spPr>
          <a:xfrm>
            <a:off x="2521080" y="1601640"/>
            <a:ext cx="58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[2016. 3. 16.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자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특허법원 침해소송 항소심 심리 매뉴얼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6" name="다이어그램 11" descr=""/>
          <p:cNvPicPr/>
          <p:nvPr/>
        </p:nvPicPr>
        <p:blipFill>
          <a:blip r:embed="rId3"/>
          <a:stretch/>
        </p:blipFill>
        <p:spPr>
          <a:xfrm>
            <a:off x="414360" y="3743280"/>
            <a:ext cx="8534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슬라이드 번호 개체 틀 3"/>
          <p:cNvSpPr/>
          <p:nvPr/>
        </p:nvSpPr>
        <p:spPr>
          <a:xfrm>
            <a:off x="3600360" y="6305400"/>
            <a:ext cx="2184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5F39-6F02-40C2-ADBD-6272397DF09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6000" y="2841480"/>
          <a:ext cx="1655640" cy="1482840"/>
        </p:xfrm>
        <a:graphic>
          <a:graphicData uri="http://schemas.openxmlformats.org/drawingml/2006/table">
            <a:tbl>
              <a:tblPr/>
              <a:tblGrid>
                <a:gridCol w="360360"/>
                <a:gridCol w="647640"/>
                <a:gridCol w="647640"/>
              </a:tblGrid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무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침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9" name="제목 1"/>
          <p:cNvSpPr/>
          <p:nvPr/>
        </p:nvSpPr>
        <p:spPr>
          <a:xfrm>
            <a:off x="390600" y="306360"/>
            <a:ext cx="8826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2. </a:t>
            </a:r>
            <a:r>
              <a:rPr b="1" lang="ko-KR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절차의 병행과 중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80" name="TextBox 6"/>
          <p:cNvGrpSpPr/>
          <p:nvPr/>
        </p:nvGrpSpPr>
        <p:grpSpPr>
          <a:xfrm>
            <a:off x="298440" y="1060560"/>
            <a:ext cx="7967520" cy="615960"/>
            <a:chOff x="298440" y="1060560"/>
            <a:chExt cx="7967520" cy="615960"/>
          </a:xfrm>
        </p:grpSpPr>
        <p:pic>
          <p:nvPicPr>
            <p:cNvPr id="81" name="TextBox 6" descr=""/>
            <p:cNvPicPr/>
            <p:nvPr/>
          </p:nvPicPr>
          <p:blipFill>
            <a:blip r:embed="rId1"/>
            <a:stretch/>
          </p:blipFill>
          <p:spPr>
            <a:xfrm>
              <a:off x="298440" y="1060560"/>
              <a:ext cx="79675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60360" y="1098720"/>
              <a:ext cx="7848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절차의 중지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pic>
        <p:nvPicPr>
          <p:cNvPr id="83" name="다이어그램 10" descr=""/>
          <p:cNvPicPr/>
          <p:nvPr/>
        </p:nvPicPr>
        <p:blipFill>
          <a:blip r:embed="rId2"/>
          <a:stretch/>
        </p:blipFill>
        <p:spPr>
          <a:xfrm>
            <a:off x="2120760" y="2462040"/>
            <a:ext cx="70297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슬라이드 번호 개체 틀 9"/>
          <p:cNvSpPr/>
          <p:nvPr/>
        </p:nvSpPr>
        <p:spPr>
          <a:xfrm>
            <a:off x="4464000" y="6278400"/>
            <a:ext cx="43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0B6D-FF8D-4AA9-8C41-7F84ECCDC436}" type="slidenum">
              <a:rPr b="0" lang="ko-KR" sz="1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제목 1"/>
          <p:cNvSpPr/>
          <p:nvPr/>
        </p:nvSpPr>
        <p:spPr>
          <a:xfrm>
            <a:off x="390600" y="306360"/>
            <a:ext cx="8826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2. </a:t>
            </a:r>
            <a:r>
              <a:rPr b="1" lang="ko-KR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절차의 병행과 중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6" name="다이어그램 9" descr=""/>
          <p:cNvPicPr/>
          <p:nvPr/>
        </p:nvPicPr>
        <p:blipFill>
          <a:blip r:embed="rId1"/>
          <a:stretch/>
        </p:blipFill>
        <p:spPr>
          <a:xfrm>
            <a:off x="2139840" y="4035600"/>
            <a:ext cx="7023240" cy="168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16000" y="1459080"/>
          <a:ext cx="1655640" cy="1482480"/>
        </p:xfrm>
        <a:graphic>
          <a:graphicData uri="http://schemas.openxmlformats.org/drawingml/2006/table">
            <a:tbl>
              <a:tblPr/>
              <a:tblGrid>
                <a:gridCol w="360360"/>
                <a:gridCol w="647640"/>
                <a:gridCol w="647640"/>
              </a:tblGrid>
              <a:tr h="37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무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침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88" name="다이어그램 11" descr=""/>
          <p:cNvPicPr/>
          <p:nvPr/>
        </p:nvPicPr>
        <p:blipFill>
          <a:blip r:embed="rId2"/>
          <a:stretch/>
        </p:blipFill>
        <p:spPr>
          <a:xfrm>
            <a:off x="2127240" y="1225440"/>
            <a:ext cx="7023240" cy="219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16000" y="4122720"/>
          <a:ext cx="1655640" cy="1482840"/>
        </p:xfrm>
        <a:graphic>
          <a:graphicData uri="http://schemas.openxmlformats.org/drawingml/2006/table">
            <a:tbl>
              <a:tblPr/>
              <a:tblGrid>
                <a:gridCol w="360360"/>
                <a:gridCol w="647640"/>
                <a:gridCol w="647640"/>
              </a:tblGrid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무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침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슬라이드 번호 개체 틀 9"/>
          <p:cNvSpPr/>
          <p:nvPr/>
        </p:nvSpPr>
        <p:spPr>
          <a:xfrm>
            <a:off x="4464000" y="6278400"/>
            <a:ext cx="43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1C7-8269-4B18-A925-C91862DB7166}" type="slidenum">
              <a:rPr b="0" lang="ko-KR" sz="1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제목 1"/>
          <p:cNvSpPr/>
          <p:nvPr/>
        </p:nvSpPr>
        <p:spPr>
          <a:xfrm>
            <a:off x="390600" y="306360"/>
            <a:ext cx="8826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2. </a:t>
            </a:r>
            <a:r>
              <a:rPr b="1" lang="ko-KR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절차의 병행과 중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92" name="TextBox 6"/>
          <p:cNvGrpSpPr/>
          <p:nvPr/>
        </p:nvGrpSpPr>
        <p:grpSpPr>
          <a:xfrm>
            <a:off x="152280" y="987480"/>
            <a:ext cx="7967880" cy="615960"/>
            <a:chOff x="152280" y="987480"/>
            <a:chExt cx="7967880" cy="615960"/>
          </a:xfrm>
        </p:grpSpPr>
        <p:pic>
          <p:nvPicPr>
            <p:cNvPr id="93" name="TextBox 6" descr=""/>
            <p:cNvPicPr/>
            <p:nvPr/>
          </p:nvPicPr>
          <p:blipFill>
            <a:blip r:embed="rId1"/>
            <a:stretch/>
          </p:blipFill>
          <p:spPr>
            <a:xfrm>
              <a:off x="152280" y="987480"/>
              <a:ext cx="7967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16000" y="1027080"/>
              <a:ext cx="7848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권리범위확인심판의 경우에도 절차를 중지할 것인가</a:t>
              </a:r>
              <a:r>
                <a:rPr b="0" lang="en-US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95" name="TextBox 7"/>
          <p:cNvSpPr/>
          <p:nvPr/>
        </p:nvSpPr>
        <p:spPr>
          <a:xfrm>
            <a:off x="216000" y="1674720"/>
            <a:ext cx="9001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허법의 절차의 중지에 관한 조항에서는 심판을 무효심판으로 한정하고 있지 않음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피고 실시제품과 확인대상발명의 특정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판의 남용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96" name="TextBox 10"/>
          <p:cNvGrpSpPr/>
          <p:nvPr/>
        </p:nvGrpSpPr>
        <p:grpSpPr>
          <a:xfrm>
            <a:off x="96840" y="3340080"/>
            <a:ext cx="8023320" cy="665280"/>
            <a:chOff x="96840" y="3340080"/>
            <a:chExt cx="8023320" cy="665280"/>
          </a:xfrm>
        </p:grpSpPr>
        <p:pic>
          <p:nvPicPr>
            <p:cNvPr id="97" name="TextBox 10" descr=""/>
            <p:cNvPicPr/>
            <p:nvPr/>
          </p:nvPicPr>
          <p:blipFill>
            <a:blip r:embed="rId2"/>
            <a:stretch/>
          </p:blipFill>
          <p:spPr>
            <a:xfrm>
              <a:off x="96840" y="3340080"/>
              <a:ext cx="80233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16000" y="3376440"/>
              <a:ext cx="7848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정정심판의 심결을 기다려 절차를 중지할 것인가</a:t>
              </a:r>
              <a:r>
                <a:rPr b="0" lang="en-US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99" name="TextBox 11"/>
          <p:cNvSpPr/>
          <p:nvPr/>
        </p:nvSpPr>
        <p:spPr>
          <a:xfrm>
            <a:off x="216000" y="4051440"/>
            <a:ext cx="9001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정정심결에 의한 권리 변동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정정심결을 기다리지 않고 판결을 내린 후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상고심 진행 중 정정심결이 있는 경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 사건은 해당 권리에 기한 판단이 이루어지지 않았음을 이유로 파기환송을 면할 수 없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더욱더 절차가 지연될 가능성도 있음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슬라이드 번호 개체 틀 9"/>
          <p:cNvSpPr/>
          <p:nvPr/>
        </p:nvSpPr>
        <p:spPr>
          <a:xfrm>
            <a:off x="4464000" y="6278400"/>
            <a:ext cx="43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7924-C45D-40B2-AAFC-5BEFE459BB1C}" type="slidenum">
              <a:rPr b="0" lang="ko-KR" sz="1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제목 1"/>
          <p:cNvSpPr/>
          <p:nvPr/>
        </p:nvSpPr>
        <p:spPr>
          <a:xfrm>
            <a:off x="390600" y="306360"/>
            <a:ext cx="8826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3. </a:t>
            </a:r>
            <a:r>
              <a:rPr b="1" lang="ko-KR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심판절차의 남용과 심판의 이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16000" y="1044720"/>
            <a:ext cx="9001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 변론종결 후 또는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 판결 후 중복으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권리범위확인심판이 제기된 경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확인의 이익이 없다는 것이 특허법원의 태도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허법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016. 1. 14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선고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015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허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6824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판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 변론종결 전에 권리범위확인심판이 제기된 경우는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권리범위확인심판의 존재 의의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권리범위심판청구 시기에 대한 제한이 없음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법적인 기속력이 없는 권리범위확인심판도 당사자 입장에서는 침해소송과 달리 상대적으로 저비용으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단시간에 본인의 권리에 대한 확인을 받을 수 있는 장점이 있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사실상의 이익은 존재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71440" indent="-27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ex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영업 및 계약상 특허를 침해하는 물건이 아니라는 확인이 필요한 경우 등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슬라이드 번호 개체 틀 9"/>
          <p:cNvSpPr/>
          <p:nvPr/>
        </p:nvSpPr>
        <p:spPr>
          <a:xfrm>
            <a:off x="4464000" y="6278400"/>
            <a:ext cx="43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6F49-15B1-4C9B-88BF-05251B40C54A}" type="slidenum">
              <a:rPr b="0" lang="ko-KR" sz="1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제목 1"/>
          <p:cNvSpPr/>
          <p:nvPr/>
        </p:nvSpPr>
        <p:spPr>
          <a:xfrm>
            <a:off x="216000" y="306360"/>
            <a:ext cx="864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4. </a:t>
            </a:r>
            <a:r>
              <a:rPr b="1" lang="ko-KR" sz="2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결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05" name="TextBox 8"/>
          <p:cNvGrpSpPr/>
          <p:nvPr/>
        </p:nvGrpSpPr>
        <p:grpSpPr>
          <a:xfrm>
            <a:off x="298440" y="987480"/>
            <a:ext cx="7967520" cy="665280"/>
            <a:chOff x="298440" y="987480"/>
            <a:chExt cx="7967520" cy="665280"/>
          </a:xfrm>
        </p:grpSpPr>
        <p:pic>
          <p:nvPicPr>
            <p:cNvPr id="106" name="TextBox 8" descr=""/>
            <p:cNvPicPr/>
            <p:nvPr/>
          </p:nvPicPr>
          <p:blipFill>
            <a:blip r:embed="rId1"/>
            <a:stretch/>
          </p:blipFill>
          <p:spPr>
            <a:xfrm>
              <a:off x="298440" y="987480"/>
              <a:ext cx="7967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0360" y="1027080"/>
              <a:ext cx="7848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이원적 체계가 가지는 한계의 극복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8" name="TextBox 10"/>
          <p:cNvGrpSpPr/>
          <p:nvPr/>
        </p:nvGrpSpPr>
        <p:grpSpPr>
          <a:xfrm>
            <a:off x="298440" y="4950000"/>
            <a:ext cx="7967520" cy="664920"/>
            <a:chOff x="298440" y="4950000"/>
            <a:chExt cx="7967520" cy="664920"/>
          </a:xfrm>
        </p:grpSpPr>
        <p:pic>
          <p:nvPicPr>
            <p:cNvPr id="109" name="TextBox 10" descr=""/>
            <p:cNvPicPr/>
            <p:nvPr/>
          </p:nvPicPr>
          <p:blipFill>
            <a:blip r:embed="rId2"/>
            <a:stretch/>
          </p:blipFill>
          <p:spPr>
            <a:xfrm>
              <a:off x="298440" y="4950000"/>
              <a:ext cx="796752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0360" y="4986360"/>
              <a:ext cx="7848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2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상표 및 디자인 사건에의 적용 여부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111" name="TextBox 12"/>
          <p:cNvSpPr/>
          <p:nvPr/>
        </p:nvSpPr>
        <p:spPr>
          <a:xfrm>
            <a:off x="360360" y="1643040"/>
            <a:ext cx="8712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이원적 체계가 가지는 한계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재판 결과 상충가능성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소송경제에 반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당사자 불편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과도한 소송 부담 등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한가지 해결 방법으로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016. 1. 1.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자로 관할집중화 시행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실질적으로는 별개의 사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별개의 제도가 존재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→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이원적 체계가 가지는 한계에 대한 완전한 극복이 이루어졌다고는 볼 수 없음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절차의 병행 및 중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주장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증거의 제출기회 제한의 적절한 활용으로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결취소소송과 침해소송의 조화로운 운영 도모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60360" y="5605560"/>
            <a:ext cx="864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 법원의 독자적인 심리 및 판단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Users\kimhyeonjin.BKL\Downloads\GettyimagesBank_a10481899_Small_PNG.png"/>
          <p:cNvPicPr/>
          <p:nvPr/>
        </p:nvPicPr>
        <p:blipFill>
          <a:blip r:embed="rId1"/>
          <a:stretch/>
        </p:blipFill>
        <p:spPr>
          <a:xfrm>
            <a:off x="-23760" y="-6480"/>
            <a:ext cx="9387000" cy="6675480"/>
          </a:xfrm>
          <a:prstGeom prst="rect">
            <a:avLst/>
          </a:prstGeom>
          <a:ln w="0">
            <a:noFill/>
          </a:ln>
        </p:spPr>
      </p:pic>
      <p:pic>
        <p:nvPicPr>
          <p:cNvPr id="114" name="그림 2" descr=""/>
          <p:cNvPicPr/>
          <p:nvPr/>
        </p:nvPicPr>
        <p:blipFill>
          <a:blip r:embed="rId2"/>
          <a:stretch/>
        </p:blipFill>
        <p:spPr>
          <a:xfrm>
            <a:off x="7632720" y="6022800"/>
            <a:ext cx="1477800" cy="357480"/>
          </a:xfrm>
          <a:prstGeom prst="rect">
            <a:avLst/>
          </a:prstGeom>
          <a:ln w="0">
            <a:noFill/>
          </a:ln>
        </p:spPr>
      </p:pic>
      <p:sp>
        <p:nvSpPr>
          <p:cNvPr id="115" name="직사각형 10"/>
          <p:cNvSpPr/>
          <p:nvPr/>
        </p:nvSpPr>
        <p:spPr>
          <a:xfrm>
            <a:off x="-19080" y="0"/>
            <a:ext cx="9375840" cy="3546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제목 1"/>
          <p:cNvSpPr/>
          <p:nvPr/>
        </p:nvSpPr>
        <p:spPr>
          <a:xfrm>
            <a:off x="2255760" y="2913120"/>
            <a:ext cx="485316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7375e"/>
                </a:solidFill>
                <a:latin typeface="맑은 고딕"/>
                <a:ea typeface="맑은 고딕"/>
              </a:rPr>
              <a:t>감사합니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1T08:56:59Z</dcterms:created>
  <dc:creator>s_Hyeonjin Kim (BKL)</dc:creator>
  <dc:description/>
  <dc:language>en-US</dc:language>
  <cp:lastModifiedBy>Wonyoung CHUNG</cp:lastModifiedBy>
  <dcterms:modified xsi:type="dcterms:W3CDTF">2016-06-12T14:11:30Z</dcterms:modified>
  <cp:revision>148</cp:revision>
  <dc:subject/>
  <dc:title>제목을 입력하세요</dc:title>
</cp:coreProperties>
</file>