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723438" cy="6480175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4D5E-5230-456E-9DE8-87247D968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505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5280" y="1511280"/>
            <a:ext cx="875052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5280" y="3745080"/>
            <a:ext cx="875052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4BF1-0E91-4FAF-B80D-FDEBDB291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505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85280" y="1511280"/>
            <a:ext cx="42699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69080" y="1511280"/>
            <a:ext cx="42699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85280" y="3745080"/>
            <a:ext cx="42699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69080" y="3745080"/>
            <a:ext cx="42699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5EDD-19A1-4B8B-9809-E908AB3C8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505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85280" y="1511280"/>
            <a:ext cx="28173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43760" y="1511280"/>
            <a:ext cx="28173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02600" y="1511280"/>
            <a:ext cx="28173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85280" y="3745080"/>
            <a:ext cx="28173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43760" y="3745080"/>
            <a:ext cx="28173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02600" y="3745080"/>
            <a:ext cx="28173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8D76-AEAC-45F0-B4CE-573D10C78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505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85280" y="1511280"/>
            <a:ext cx="875052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505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85280" y="1511280"/>
            <a:ext cx="875052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505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85280" y="1511280"/>
            <a:ext cx="426996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69080" y="1511280"/>
            <a:ext cx="426996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505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85280" y="258840"/>
            <a:ext cx="875052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505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85280" y="1511280"/>
            <a:ext cx="42699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69080" y="1511280"/>
            <a:ext cx="426996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85280" y="3745080"/>
            <a:ext cx="42699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505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85280" y="1511280"/>
            <a:ext cx="875052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9899-6D15-4C9B-AA1D-40FAB9178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505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85280" y="1511280"/>
            <a:ext cx="426996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69080" y="1511280"/>
            <a:ext cx="42699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69080" y="3745080"/>
            <a:ext cx="42699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505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85280" y="1511280"/>
            <a:ext cx="42699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69080" y="1511280"/>
            <a:ext cx="42699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5280" y="3745080"/>
            <a:ext cx="875052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505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85280" y="1511280"/>
            <a:ext cx="875052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5280" y="3745080"/>
            <a:ext cx="875052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505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85280" y="1511280"/>
            <a:ext cx="42699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69080" y="1511280"/>
            <a:ext cx="42699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5280" y="3745080"/>
            <a:ext cx="42699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69080" y="3745080"/>
            <a:ext cx="42699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505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85280" y="1511280"/>
            <a:ext cx="28173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43760" y="1511280"/>
            <a:ext cx="28173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402600" y="1511280"/>
            <a:ext cx="28173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5280" y="3745080"/>
            <a:ext cx="28173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43760" y="3745080"/>
            <a:ext cx="28173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402600" y="3745080"/>
            <a:ext cx="28173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505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85280" y="1511280"/>
            <a:ext cx="875052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505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85280" y="1511280"/>
            <a:ext cx="875052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505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85280" y="1511280"/>
            <a:ext cx="426996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69080" y="1511280"/>
            <a:ext cx="426996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505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505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85280" y="1511280"/>
            <a:ext cx="875052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707E-718E-4ABA-BCD6-43F507BBD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85280" y="258840"/>
            <a:ext cx="875052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505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85280" y="1511280"/>
            <a:ext cx="42699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69080" y="1511280"/>
            <a:ext cx="426996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85280" y="3745080"/>
            <a:ext cx="42699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505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85280" y="1511280"/>
            <a:ext cx="426996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69080" y="1511280"/>
            <a:ext cx="42699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969080" y="3745080"/>
            <a:ext cx="42699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505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85280" y="1511280"/>
            <a:ext cx="42699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69080" y="1511280"/>
            <a:ext cx="42699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85280" y="3745080"/>
            <a:ext cx="875052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505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85280" y="1511280"/>
            <a:ext cx="875052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5280" y="3745080"/>
            <a:ext cx="875052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505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85280" y="1511280"/>
            <a:ext cx="42699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69080" y="1511280"/>
            <a:ext cx="42699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5280" y="3745080"/>
            <a:ext cx="42699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969080" y="3745080"/>
            <a:ext cx="42699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505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85280" y="1511280"/>
            <a:ext cx="28173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443760" y="1511280"/>
            <a:ext cx="28173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402600" y="1511280"/>
            <a:ext cx="28173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85280" y="3745080"/>
            <a:ext cx="28173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443760" y="3745080"/>
            <a:ext cx="28173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402600" y="3745080"/>
            <a:ext cx="28173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505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85280" y="1511280"/>
            <a:ext cx="426996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69080" y="1511280"/>
            <a:ext cx="426996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EA01-4588-4A69-9077-B6391B329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505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D81D-1F21-444E-ACD2-BC98DB193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85280" y="258840"/>
            <a:ext cx="875052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8FDC-474E-4630-8542-9999549F3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505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85280" y="1511280"/>
            <a:ext cx="42699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69080" y="1511280"/>
            <a:ext cx="426996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5280" y="3745080"/>
            <a:ext cx="42699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71C1-C521-4CAD-8EF8-230A30584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505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85280" y="1511280"/>
            <a:ext cx="426996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69080" y="1511280"/>
            <a:ext cx="42699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69080" y="3745080"/>
            <a:ext cx="42699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593E-EEE1-4502-B3AC-7CCAD3AF1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505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85280" y="1511280"/>
            <a:ext cx="42699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69080" y="1511280"/>
            <a:ext cx="42699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5280" y="3745080"/>
            <a:ext cx="875052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637F-1F59-4942-86A5-649F6EB3E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505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5280" y="1511280"/>
            <a:ext cx="875052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85640" y="6005160"/>
            <a:ext cx="22687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02936-A328-4312-9F36-377CC7A6E84D}" type="datetime">
              <a:rPr b="0" lang="ko-KR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26年 7月 29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22800" y="6005160"/>
            <a:ext cx="307656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67440" y="5976720"/>
            <a:ext cx="22687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1F77C-A5C5-4333-BA88-6AB03AE1BEBC}" type="slidenum">
              <a:rPr b="0" lang="ko-KR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" descr="C:\Users\KIMHYEONJIN\Desktop\그림1.png"/>
          <p:cNvPicPr/>
          <p:nvPr/>
        </p:nvPicPr>
        <p:blipFill>
          <a:blip r:embed="rId2"/>
          <a:srcRect l="0" t="4102" r="0" b="0"/>
          <a:stretch/>
        </p:blipFill>
        <p:spPr>
          <a:xfrm>
            <a:off x="-3240" y="0"/>
            <a:ext cx="9725040" cy="12272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6" name="그림 2" descr=""/>
          <p:cNvPicPr/>
          <p:nvPr/>
        </p:nvPicPr>
        <p:blipFill>
          <a:blip r:embed="rId3"/>
          <a:stretch/>
        </p:blipFill>
        <p:spPr>
          <a:xfrm>
            <a:off x="7862760" y="6048360"/>
            <a:ext cx="1355760" cy="325440"/>
          </a:xfrm>
          <a:prstGeom prst="rect">
            <a:avLst/>
          </a:prstGeom>
          <a:ln w="0">
            <a:noFill/>
          </a:ln>
        </p:spPr>
      </p:pic>
      <p:sp>
        <p:nvSpPr>
          <p:cNvPr id="7" name="TextBox 8"/>
          <p:cNvSpPr/>
          <p:nvPr/>
        </p:nvSpPr>
        <p:spPr>
          <a:xfrm>
            <a:off x="9173520" y="6167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맑은 고딕"/>
              </a:rPr>
              <a:t>|</a:t>
            </a: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Users\KIMHYEONJIN\Desktop\그림1.png"/>
          <p:cNvPicPr/>
          <p:nvPr/>
        </p:nvPicPr>
        <p:blipFill>
          <a:blip r:embed="rId2"/>
          <a:srcRect l="0" t="4102" r="0" b="0"/>
          <a:stretch/>
        </p:blipFill>
        <p:spPr>
          <a:xfrm>
            <a:off x="-3240" y="0"/>
            <a:ext cx="9725040" cy="12272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45" name="그림 2" descr=""/>
          <p:cNvPicPr/>
          <p:nvPr/>
        </p:nvPicPr>
        <p:blipFill>
          <a:blip r:embed="rId3"/>
          <a:stretch/>
        </p:blipFill>
        <p:spPr>
          <a:xfrm>
            <a:off x="7862760" y="6048360"/>
            <a:ext cx="1355760" cy="325440"/>
          </a:xfrm>
          <a:prstGeom prst="rect">
            <a:avLst/>
          </a:prstGeom>
          <a:ln w="0">
            <a:noFill/>
          </a:ln>
        </p:spPr>
      </p:pic>
      <p:sp>
        <p:nvSpPr>
          <p:cNvPr id="46" name="TextBox 8"/>
          <p:cNvSpPr/>
          <p:nvPr/>
        </p:nvSpPr>
        <p:spPr>
          <a:xfrm>
            <a:off x="9173520" y="6167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맑은 고딕"/>
              </a:rPr>
              <a:t>|</a:t>
            </a: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505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85280" y="1511280"/>
            <a:ext cx="875052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85640" y="6005160"/>
            <a:ext cx="22687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B13C3-21FB-4891-B3B1-50B2F77766A0}" type="datetime">
              <a:rPr b="0" lang="ko-KR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26年 7月 29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22800" y="6005160"/>
            <a:ext cx="307656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Users\KIMHYEONJIN\Desktop\그림1.png"/>
          <p:cNvPicPr/>
          <p:nvPr/>
        </p:nvPicPr>
        <p:blipFill>
          <a:blip r:embed="rId2"/>
          <a:srcRect l="0" t="4102" r="0" b="0"/>
          <a:stretch/>
        </p:blipFill>
        <p:spPr>
          <a:xfrm>
            <a:off x="-3240" y="0"/>
            <a:ext cx="9725040" cy="12272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88" name="그림 2" descr=""/>
          <p:cNvPicPr/>
          <p:nvPr/>
        </p:nvPicPr>
        <p:blipFill>
          <a:blip r:embed="rId3"/>
          <a:stretch/>
        </p:blipFill>
        <p:spPr>
          <a:xfrm>
            <a:off x="7862760" y="6048360"/>
            <a:ext cx="1355760" cy="325440"/>
          </a:xfrm>
          <a:prstGeom prst="rect">
            <a:avLst/>
          </a:prstGeom>
          <a:ln w="0">
            <a:noFill/>
          </a:ln>
        </p:spPr>
      </p:pic>
      <p:sp>
        <p:nvSpPr>
          <p:cNvPr id="89" name="TextBox 8"/>
          <p:cNvSpPr/>
          <p:nvPr/>
        </p:nvSpPr>
        <p:spPr>
          <a:xfrm>
            <a:off x="9173520" y="6167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맑은 고딕"/>
              </a:rPr>
              <a:t>|</a:t>
            </a: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505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85280" y="1511280"/>
            <a:ext cx="875052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6"/>
          </p:nvPr>
        </p:nvSpPr>
        <p:spPr>
          <a:xfrm>
            <a:off x="485640" y="6005160"/>
            <a:ext cx="22687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F5DC6-CD21-455D-8F4A-CF4AA5FFB4CD}" type="datetime">
              <a:rPr b="0" lang="ko-KR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26年 7月 29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7"/>
          </p:nvPr>
        </p:nvSpPr>
        <p:spPr>
          <a:xfrm>
            <a:off x="3322800" y="6005160"/>
            <a:ext cx="307656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Box 1"/>
          <p:cNvSpPr/>
          <p:nvPr/>
        </p:nvSpPr>
        <p:spPr>
          <a:xfrm>
            <a:off x="357120" y="87480"/>
            <a:ext cx="409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BKL Overview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1" name="그림 2" descr=""/>
          <p:cNvPicPr/>
          <p:nvPr/>
        </p:nvPicPr>
        <p:blipFill>
          <a:blip r:embed="rId1"/>
          <a:stretch/>
        </p:blipFill>
        <p:spPr>
          <a:xfrm>
            <a:off x="8272440" y="6146640"/>
            <a:ext cx="946080" cy="227160"/>
          </a:xfrm>
          <a:prstGeom prst="rect">
            <a:avLst/>
          </a:prstGeom>
          <a:ln w="0">
            <a:noFill/>
          </a:ln>
        </p:spPr>
      </p:pic>
      <p:sp>
        <p:nvSpPr>
          <p:cNvPr id="132" name="슬라이드 번호 개체 틀 2"/>
          <p:cNvSpPr/>
          <p:nvPr/>
        </p:nvSpPr>
        <p:spPr>
          <a:xfrm>
            <a:off x="9218520" y="6138720"/>
            <a:ext cx="3571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|  </a:t>
            </a:r>
            <a:fld id="{B6961C09-6360-407E-AF36-291E19282898}" type="slidenum">
              <a:rPr b="0" lang="ko-KR" sz="9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3" name="Picture 2" descr="C:\Users\KIMHYEONJIN\Desktop\그림1.png"/>
          <p:cNvPicPr/>
          <p:nvPr/>
        </p:nvPicPr>
        <p:blipFill>
          <a:blip r:embed="rId2"/>
          <a:srcRect l="0" t="0" r="0" b="29833"/>
          <a:stretch/>
        </p:blipFill>
        <p:spPr>
          <a:xfrm>
            <a:off x="-3240" y="5391000"/>
            <a:ext cx="9725040" cy="1089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C:\Users\KIMHYEONJIN\Desktop\그림1.png"/>
          <p:cNvPicPr/>
          <p:nvPr/>
        </p:nvPicPr>
        <p:blipFill>
          <a:blip r:embed="rId3"/>
          <a:srcRect l="0" t="27181" r="0" b="0"/>
          <a:stretch/>
        </p:blipFill>
        <p:spPr>
          <a:xfrm>
            <a:off x="1440" y="0"/>
            <a:ext cx="9725040" cy="932040"/>
          </a:xfrm>
          <a:prstGeom prst="rect">
            <a:avLst/>
          </a:prstGeom>
          <a:ln w="0">
            <a:noFill/>
          </a:ln>
        </p:spPr>
      </p:pic>
      <p:sp>
        <p:nvSpPr>
          <p:cNvPr id="135" name="TextBox 2"/>
          <p:cNvSpPr/>
          <p:nvPr/>
        </p:nvSpPr>
        <p:spPr>
          <a:xfrm>
            <a:off x="1081080" y="1800360"/>
            <a:ext cx="7556400" cy="17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1f497d"/>
                </a:solidFill>
                <a:latin typeface="맑은 고딕"/>
                <a:ea typeface="맑은 고딕"/>
              </a:rPr>
              <a:t>침해소송과 심결취소소송의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1f497d"/>
                </a:solidFill>
                <a:latin typeface="맑은 고딕"/>
                <a:ea typeface="맑은 고딕"/>
              </a:rPr>
              <a:t>조화로운 운영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맑은 고딕"/>
                <a:ea typeface="맑은 고딕"/>
              </a:rPr>
              <a:t>- 3</a:t>
            </a:r>
            <a:r>
              <a:rPr b="1" lang="ko-KR" sz="1800" spc="-1" strike="noStrike">
                <a:solidFill>
                  <a:srgbClr val="1f497d"/>
                </a:solidFill>
                <a:latin typeface="맑은 고딕"/>
                <a:ea typeface="맑은 고딕"/>
              </a:rPr>
              <a:t>세션 주제발표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6" name="TextBox 9"/>
          <p:cNvSpPr/>
          <p:nvPr/>
        </p:nvSpPr>
        <p:spPr>
          <a:xfrm>
            <a:off x="2343240" y="3887640"/>
            <a:ext cx="5041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맑은 고딕"/>
                <a:ea typeface="맑은 고딕"/>
              </a:rPr>
              <a:t>2016. 6. 13.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1f497d"/>
                </a:solidFill>
                <a:latin typeface="맑은 고딕"/>
                <a:ea typeface="맑은 고딕"/>
              </a:rPr>
              <a:t>법무법인</a:t>
            </a:r>
            <a:r>
              <a:rPr b="1" lang="en-US" sz="1400" spc="-1" strike="noStrike">
                <a:solidFill>
                  <a:srgbClr val="1f497d"/>
                </a:solidFill>
                <a:latin typeface="맑은 고딕"/>
                <a:ea typeface="맑은 고딕"/>
              </a:rPr>
              <a:t>(</a:t>
            </a:r>
            <a:r>
              <a:rPr b="1" lang="ko-KR" sz="1400" spc="-1" strike="noStrike">
                <a:solidFill>
                  <a:srgbClr val="1f497d"/>
                </a:solidFill>
                <a:latin typeface="맑은 고딕"/>
                <a:ea typeface="맑은 고딕"/>
              </a:rPr>
              <a:t>유한</a:t>
            </a:r>
            <a:r>
              <a:rPr b="1" lang="en-US" sz="1400" spc="-1" strike="noStrike">
                <a:solidFill>
                  <a:srgbClr val="1f497d"/>
                </a:solidFill>
                <a:latin typeface="맑은 고딕"/>
                <a:ea typeface="맑은 고딕"/>
              </a:rPr>
              <a:t>) </a:t>
            </a:r>
            <a:r>
              <a:rPr b="1" lang="ko-KR" sz="1400" spc="-1" strike="noStrike">
                <a:solidFill>
                  <a:srgbClr val="1f497d"/>
                </a:solidFill>
                <a:latin typeface="맑은 고딕"/>
                <a:ea typeface="맑은 고딕"/>
              </a:rPr>
              <a:t>태평양 변호사 이명규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7" name="Rectangle 1"/>
          <p:cNvSpPr/>
          <p:nvPr/>
        </p:nvSpPr>
        <p:spPr>
          <a:xfrm>
            <a:off x="5869080" y="5262840"/>
            <a:ext cx="432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4f81bd"/>
                </a:solidFill>
                <a:latin typeface="맑은 고딕"/>
                <a:ea typeface="굴림"/>
              </a:rPr>
              <a:t>발표내용은 발표자의 개인 견해이며</a:t>
            </a:r>
            <a:r>
              <a:rPr b="1" lang="en-US" sz="1400" spc="-1" strike="noStrike">
                <a:solidFill>
                  <a:srgbClr val="4f81bd"/>
                </a:solidFill>
                <a:latin typeface="맑은 고딕"/>
                <a:ea typeface="굴림"/>
              </a:rPr>
              <a:t>, </a:t>
            </a:r>
            <a:r>
              <a:rPr b="1" lang="ko-KR" sz="1400" spc="-1" strike="noStrike">
                <a:solidFill>
                  <a:srgbClr val="4f81bd"/>
                </a:solidFill>
                <a:latin typeface="맑은 고딕"/>
                <a:ea typeface="굴림"/>
              </a:rPr>
              <a:t>소속  법무법인 및 </a:t>
            </a:r>
            <a:r>
              <a:rPr b="1" lang="en-US" sz="1400" spc="-1" strike="noStrike">
                <a:solidFill>
                  <a:srgbClr val="4f81bd"/>
                </a:solidFill>
                <a:latin typeface="맑은 고딕"/>
                <a:ea typeface="굴림"/>
              </a:rPr>
              <a:t>KIPLA</a:t>
            </a:r>
            <a:r>
              <a:rPr b="1" lang="ko-KR" sz="1400" spc="-1" strike="noStrike">
                <a:solidFill>
                  <a:srgbClr val="4f81bd"/>
                </a:solidFill>
                <a:latin typeface="맑은 고딕"/>
                <a:ea typeface="굴림"/>
              </a:rPr>
              <a:t>의 공식 견해와 무관합니다</a:t>
            </a:r>
            <a:r>
              <a:rPr b="1" lang="en-US" sz="1400" spc="-1" strike="noStrike">
                <a:solidFill>
                  <a:srgbClr val="4f81bd"/>
                </a:solidFill>
                <a:latin typeface="맑은 고딕"/>
                <a:ea typeface="굴림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TextBox 3"/>
          <p:cNvSpPr/>
          <p:nvPr/>
        </p:nvSpPr>
        <p:spPr>
          <a:xfrm>
            <a:off x="396720" y="719280"/>
            <a:ext cx="49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6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허법원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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한국지적재산권변호사협회 컨퍼런스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468360" y="1871640"/>
            <a:ext cx="875016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정정제도의 존재이유는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특허권자의 적정한 이익 보호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라는 특허제도의 취지와 직결되어 있음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소급효 인정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정정의 신청에 대한  통제는 가급적 최소화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정정의 남용은 정정요건의 엄격한 해석을 통해서 규제함이 바람직함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정정신청이 있더라도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그 신청이유 및 근거자료 등을 평가하여 기존 절차를 진행하는 방안으로 대응 가능함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권리범위확인심판은 제도의 효용 측면에서 문제가 있지만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법률에 명문 근거를 둔 제도임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권리범위확인심판청구를 ‘절차의 남용’으로 규제하는 접근은 신중할 필요가 있음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8" name="슬라이드 번호 개체 틀 3"/>
          <p:cNvSpPr/>
          <p:nvPr/>
        </p:nvSpPr>
        <p:spPr>
          <a:xfrm>
            <a:off x="6967440" y="6005520"/>
            <a:ext cx="22687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4024C-76EF-4DAF-BD27-A114EDC18FC6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9" name="Rectangle 1"/>
          <p:cNvSpPr/>
          <p:nvPr/>
        </p:nvSpPr>
        <p:spPr>
          <a:xfrm>
            <a:off x="324000" y="137016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4f81bd"/>
                </a:solidFill>
                <a:latin typeface="Wingdings"/>
                <a:ea typeface="Wingdings"/>
              </a:rPr>
              <a:t></a:t>
            </a:r>
            <a:r>
              <a:rPr b="0" lang="ko-KR" sz="1800" spc="-1" strike="noStrike">
                <a:solidFill>
                  <a:srgbClr val="4f81bd"/>
                </a:solidFill>
                <a:latin typeface="맑은 고딕"/>
                <a:ea typeface="굴림"/>
              </a:rPr>
              <a:t> </a:t>
            </a:r>
            <a:r>
              <a:rPr b="1" lang="ko-KR" sz="1800" spc="-1" strike="noStrike">
                <a:solidFill>
                  <a:srgbClr val="4f81bd"/>
                </a:solidFill>
                <a:latin typeface="맑은 고딕"/>
                <a:ea typeface="굴림"/>
              </a:rPr>
              <a:t>정정제도 및 권리범위확인심판 제도 관련 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0" name="직사각형 5"/>
          <p:cNvSpPr/>
          <p:nvPr/>
        </p:nvSpPr>
        <p:spPr>
          <a:xfrm>
            <a:off x="7740720" y="5977080"/>
            <a:ext cx="151272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5052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정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85280" y="1511280"/>
            <a:ext cx="875052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권리구제의 실효성 내지 분쟁의 실질 측면에서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보면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침해소송의 결과가 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당사자에게 중요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침해소송을 중심으로 한 절차 진행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소송 진행 과정에서 양쪽 당사자의 의견 진술 및 협의 기회의 충분한 보장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재판부의 의견도 충분히 표명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특히 절차 진행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관련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절차 관련 판단에 대한 다툼의 최소화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사건 진행 경과 및 결과에 관한 정보의 축적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공개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논의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     ※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예외적 사례가 입법의 필요성의 근거로 제시되는 것은 지양되어야 함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객관적</a:t>
            </a:r>
            <a:r>
              <a:rPr b="0" lang="ko-K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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과학적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통계적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)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근거 중심의 개선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혁신 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3" name="슬라이드 번호 개체 틀 3"/>
          <p:cNvSpPr/>
          <p:nvPr/>
        </p:nvSpPr>
        <p:spPr>
          <a:xfrm>
            <a:off x="6967440" y="6005520"/>
            <a:ext cx="22687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B5642-4D09-4CDA-9282-6EC016EDFF7A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4" name="직사각형 4"/>
          <p:cNvSpPr/>
          <p:nvPr/>
        </p:nvSpPr>
        <p:spPr>
          <a:xfrm>
            <a:off x="7740720" y="5977080"/>
            <a:ext cx="151272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그림 2" descr=""/>
          <p:cNvPicPr/>
          <p:nvPr/>
        </p:nvPicPr>
        <p:blipFill>
          <a:blip r:embed="rId1"/>
          <a:stretch/>
        </p:blipFill>
        <p:spPr>
          <a:xfrm>
            <a:off x="8272440" y="6146640"/>
            <a:ext cx="946080" cy="227160"/>
          </a:xfrm>
          <a:prstGeom prst="rect">
            <a:avLst/>
          </a:prstGeom>
          <a:ln w="0">
            <a:noFill/>
          </a:ln>
        </p:spPr>
      </p:pic>
      <p:sp>
        <p:nvSpPr>
          <p:cNvPr id="196" name="슬라이드 번호 개체 틀 2"/>
          <p:cNvSpPr/>
          <p:nvPr/>
        </p:nvSpPr>
        <p:spPr>
          <a:xfrm>
            <a:off x="9218520" y="6138720"/>
            <a:ext cx="3571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|  </a:t>
            </a:r>
            <a:fld id="{B212C746-EE24-4A4B-81E6-982D3C4DF12A}" type="slidenum">
              <a:rPr b="0" lang="ko-KR" sz="9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7" name="TextBox 9"/>
          <p:cNvSpPr/>
          <p:nvPr/>
        </p:nvSpPr>
        <p:spPr>
          <a:xfrm>
            <a:off x="2460600" y="2664000"/>
            <a:ext cx="478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2060"/>
                </a:solidFill>
                <a:latin typeface="맑은 고딕"/>
                <a:ea typeface="맑은 고딕"/>
              </a:rPr>
              <a:t>감사합니다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98" name="Picture 2" descr="C:\Users\KIMHYEONJIN\Desktop\그림1.png"/>
          <p:cNvPicPr/>
          <p:nvPr/>
        </p:nvPicPr>
        <p:blipFill>
          <a:blip r:embed="rId2"/>
          <a:srcRect l="0" t="0" r="0" b="29833"/>
          <a:stretch/>
        </p:blipFill>
        <p:spPr>
          <a:xfrm>
            <a:off x="-3240" y="5391000"/>
            <a:ext cx="972504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슬라이드 번호 개체 틀 2"/>
          <p:cNvSpPr/>
          <p:nvPr/>
        </p:nvSpPr>
        <p:spPr>
          <a:xfrm>
            <a:off x="6967440" y="5977080"/>
            <a:ext cx="22687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CEFAE-3DAE-4113-83C6-BDE3861F00CB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357120" y="87480"/>
            <a:ext cx="409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목차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1" name="Rectangle 13"/>
          <p:cNvSpPr/>
          <p:nvPr/>
        </p:nvSpPr>
        <p:spPr>
          <a:xfrm>
            <a:off x="1620720" y="3527280"/>
            <a:ext cx="6951960" cy="476280"/>
          </a:xfrm>
          <a:prstGeom prst="rect">
            <a:avLst/>
          </a:prstGeom>
          <a:gradFill rotWithShape="0">
            <a:gsLst>
              <a:gs pos="0">
                <a:srgbClr val="4f81bd">
                  <a:alpha val="13333"/>
                </a:srgbClr>
              </a:gs>
              <a:gs pos="100000">
                <a:srgbClr val="3b5800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1f497d"/>
                </a:solidFill>
                <a:latin typeface="HY헤드라인M"/>
                <a:ea typeface="HY헤드라인M"/>
              </a:rPr>
              <a:t>침해소송을 중심으로 한 절차 진행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grpSp>
        <p:nvGrpSpPr>
          <p:cNvPr id="142" name="그룹 13"/>
          <p:cNvGrpSpPr/>
          <p:nvPr/>
        </p:nvGrpSpPr>
        <p:grpSpPr>
          <a:xfrm>
            <a:off x="879480" y="1106640"/>
            <a:ext cx="8115120" cy="477720"/>
            <a:chOff x="879480" y="1106640"/>
            <a:chExt cx="8115120" cy="477720"/>
          </a:xfrm>
        </p:grpSpPr>
        <p:sp>
          <p:nvSpPr>
            <p:cNvPr id="143" name="Rectangle 13"/>
            <p:cNvSpPr/>
            <p:nvPr/>
          </p:nvSpPr>
          <p:spPr>
            <a:xfrm>
              <a:off x="952200" y="1106640"/>
              <a:ext cx="8042400" cy="477720"/>
            </a:xfrm>
            <a:prstGeom prst="rect">
              <a:avLst/>
            </a:prstGeom>
            <a:gradFill rotWithShape="0">
              <a:gsLst>
                <a:gs pos="0">
                  <a:srgbClr val="4f81bd">
                    <a:alpha val="13333"/>
                  </a:srgbClr>
                </a:gs>
                <a:gs pos="100000">
                  <a:srgbClr val="3b5800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f497d"/>
                  </a:solidFill>
                  <a:latin typeface="HY헤드라인M"/>
                  <a:ea typeface="HY헤드라인M"/>
                </a:rPr>
                <a:t>관할 통합의 의의</a:t>
              </a:r>
              <a:endParaRPr b="0" lang="en-US" sz="18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  <p:sp>
          <p:nvSpPr>
            <p:cNvPr id="144" name="직사각형 15"/>
            <p:cNvSpPr/>
            <p:nvPr/>
          </p:nvSpPr>
          <p:spPr>
            <a:xfrm>
              <a:off x="879480" y="1106640"/>
              <a:ext cx="72720" cy="477720"/>
            </a:xfrm>
            <a:prstGeom prst="rect">
              <a:avLst/>
            </a:prstGeom>
            <a:solidFill>
              <a:srgbClr val="002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45" name="그룹 1"/>
          <p:cNvGrpSpPr/>
          <p:nvPr/>
        </p:nvGrpSpPr>
        <p:grpSpPr>
          <a:xfrm>
            <a:off x="879480" y="4129200"/>
            <a:ext cx="8085240" cy="479160"/>
            <a:chOff x="879480" y="4129200"/>
            <a:chExt cx="8085240" cy="479160"/>
          </a:xfrm>
        </p:grpSpPr>
        <p:sp>
          <p:nvSpPr>
            <p:cNvPr id="146" name="직사각형 16"/>
            <p:cNvSpPr/>
            <p:nvPr/>
          </p:nvSpPr>
          <p:spPr>
            <a:xfrm flipH="1">
              <a:off x="879480" y="4129200"/>
              <a:ext cx="72720" cy="474480"/>
            </a:xfrm>
            <a:prstGeom prst="rect">
              <a:avLst/>
            </a:prstGeom>
            <a:solidFill>
              <a:srgbClr val="002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  <p:sp>
          <p:nvSpPr>
            <p:cNvPr id="147" name="Rectangle 13"/>
            <p:cNvSpPr/>
            <p:nvPr/>
          </p:nvSpPr>
          <p:spPr>
            <a:xfrm>
              <a:off x="922320" y="4133880"/>
              <a:ext cx="8042400" cy="474480"/>
            </a:xfrm>
            <a:prstGeom prst="rect">
              <a:avLst/>
            </a:prstGeom>
            <a:gradFill rotWithShape="0">
              <a:gsLst>
                <a:gs pos="0">
                  <a:srgbClr val="4f81bd">
                    <a:alpha val="13333"/>
                  </a:srgbClr>
                </a:gs>
                <a:gs pos="100000">
                  <a:srgbClr val="3b5800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f497d"/>
                  </a:solidFill>
                  <a:latin typeface="HY헤드라인M"/>
                  <a:ea typeface="HY헤드라인M"/>
                </a:rPr>
                <a:t>정리</a:t>
              </a:r>
              <a:endParaRPr b="0" lang="en-US" sz="18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sp>
        <p:nvSpPr>
          <p:cNvPr id="148" name="Rectangle 13"/>
          <p:cNvSpPr/>
          <p:nvPr/>
        </p:nvSpPr>
        <p:spPr>
          <a:xfrm>
            <a:off x="1620720" y="2952720"/>
            <a:ext cx="6951960" cy="476280"/>
          </a:xfrm>
          <a:prstGeom prst="rect">
            <a:avLst/>
          </a:prstGeom>
          <a:gradFill rotWithShape="0">
            <a:gsLst>
              <a:gs pos="0">
                <a:srgbClr val="4f81bd">
                  <a:alpha val="13333"/>
                </a:srgbClr>
              </a:gs>
              <a:gs pos="100000">
                <a:srgbClr val="3b5800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1f497d"/>
                </a:solidFill>
                <a:latin typeface="HY헤드라인M"/>
                <a:ea typeface="HY헤드라인M"/>
              </a:rPr>
              <a:t>실권효 제도의 적절한 운용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9" name="직사각형 1"/>
          <p:cNvSpPr/>
          <p:nvPr/>
        </p:nvSpPr>
        <p:spPr>
          <a:xfrm>
            <a:off x="7381800" y="5761080"/>
            <a:ext cx="1079640" cy="544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50" name="Picture 2" descr="C:\Users\KIMHYEONJIN\Desktop\그림1.png"/>
          <p:cNvPicPr/>
          <p:nvPr/>
        </p:nvPicPr>
        <p:blipFill>
          <a:blip r:embed="rId1"/>
          <a:srcRect l="0" t="0" r="0" b="29833"/>
          <a:stretch/>
        </p:blipFill>
        <p:spPr>
          <a:xfrm>
            <a:off x="-3240" y="5977080"/>
            <a:ext cx="9725040" cy="439560"/>
          </a:xfrm>
          <a:prstGeom prst="rect">
            <a:avLst/>
          </a:prstGeom>
          <a:ln w="0">
            <a:noFill/>
          </a:ln>
        </p:spPr>
      </p:pic>
      <p:grpSp>
        <p:nvGrpSpPr>
          <p:cNvPr id="151" name="그룹 13"/>
          <p:cNvGrpSpPr/>
          <p:nvPr/>
        </p:nvGrpSpPr>
        <p:grpSpPr>
          <a:xfrm>
            <a:off x="900000" y="1754280"/>
            <a:ext cx="8115480" cy="477720"/>
            <a:chOff x="900000" y="1754280"/>
            <a:chExt cx="8115480" cy="477720"/>
          </a:xfrm>
        </p:grpSpPr>
        <p:sp>
          <p:nvSpPr>
            <p:cNvPr id="152" name="Rectangle 13"/>
            <p:cNvSpPr/>
            <p:nvPr/>
          </p:nvSpPr>
          <p:spPr>
            <a:xfrm>
              <a:off x="972720" y="1754280"/>
              <a:ext cx="8042760" cy="477720"/>
            </a:xfrm>
            <a:prstGeom prst="rect">
              <a:avLst/>
            </a:prstGeom>
            <a:gradFill rotWithShape="0">
              <a:gsLst>
                <a:gs pos="0">
                  <a:srgbClr val="4f81bd">
                    <a:alpha val="13333"/>
                  </a:srgbClr>
                </a:gs>
                <a:gs pos="100000">
                  <a:srgbClr val="3b5800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f497d"/>
                  </a:solidFill>
                  <a:latin typeface="HY헤드라인M"/>
                  <a:ea typeface="HY헤드라인M"/>
                </a:rPr>
                <a:t>제도적</a:t>
              </a:r>
              <a:r>
                <a:rPr b="0" lang="ko-KR" sz="1800" spc="-1" strike="noStrike">
                  <a:solidFill>
                    <a:srgbClr val="1f497d"/>
                  </a:solidFill>
                  <a:latin typeface="Wingdings"/>
                  <a:ea typeface="Wingdings"/>
                </a:rPr>
                <a:t></a:t>
              </a:r>
              <a:r>
                <a:rPr b="0" lang="ko-KR" sz="1800" spc="-1" strike="noStrike">
                  <a:solidFill>
                    <a:srgbClr val="1f497d"/>
                  </a:solidFill>
                  <a:latin typeface="HY헤드라인M"/>
                  <a:ea typeface="HY헤드라인M"/>
                </a:rPr>
                <a:t>현실적 한계</a:t>
              </a:r>
              <a:endParaRPr b="0" lang="en-US" sz="18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  <p:sp>
          <p:nvSpPr>
            <p:cNvPr id="153" name="직사각형 22"/>
            <p:cNvSpPr/>
            <p:nvPr/>
          </p:nvSpPr>
          <p:spPr>
            <a:xfrm>
              <a:off x="900000" y="1754280"/>
              <a:ext cx="72720" cy="477720"/>
            </a:xfrm>
            <a:prstGeom prst="rect">
              <a:avLst/>
            </a:prstGeom>
            <a:solidFill>
              <a:srgbClr val="002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54" name="그룹 13"/>
          <p:cNvGrpSpPr/>
          <p:nvPr/>
        </p:nvGrpSpPr>
        <p:grpSpPr>
          <a:xfrm>
            <a:off x="900000" y="2401920"/>
            <a:ext cx="8115480" cy="477720"/>
            <a:chOff x="900000" y="2401920"/>
            <a:chExt cx="8115480" cy="477720"/>
          </a:xfrm>
        </p:grpSpPr>
        <p:sp>
          <p:nvSpPr>
            <p:cNvPr id="155" name="Rectangle 13"/>
            <p:cNvSpPr/>
            <p:nvPr/>
          </p:nvSpPr>
          <p:spPr>
            <a:xfrm>
              <a:off x="972720" y="2401920"/>
              <a:ext cx="8042760" cy="477720"/>
            </a:xfrm>
            <a:prstGeom prst="rect">
              <a:avLst/>
            </a:prstGeom>
            <a:gradFill rotWithShape="0">
              <a:gsLst>
                <a:gs pos="0">
                  <a:srgbClr val="4f81bd">
                    <a:alpha val="13333"/>
                  </a:srgbClr>
                </a:gs>
                <a:gs pos="100000">
                  <a:srgbClr val="3b5800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f497d"/>
                  </a:solidFill>
                  <a:latin typeface="HY헤드라인M"/>
                  <a:ea typeface="HY헤드라인M"/>
                </a:rPr>
                <a:t>운영 방안</a:t>
              </a:r>
              <a:endParaRPr b="0" lang="en-US" sz="18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  <p:sp>
          <p:nvSpPr>
            <p:cNvPr id="156" name="직사각형 26"/>
            <p:cNvSpPr/>
            <p:nvPr/>
          </p:nvSpPr>
          <p:spPr>
            <a:xfrm>
              <a:off x="900000" y="2401920"/>
              <a:ext cx="72720" cy="477720"/>
            </a:xfrm>
            <a:prstGeom prst="rect">
              <a:avLst/>
            </a:prstGeom>
            <a:solidFill>
              <a:srgbClr val="002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85280" y="360000"/>
            <a:ext cx="875052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관할 통합의 의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85280" y="1484280"/>
            <a:ext cx="8750520" cy="45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특허법원의 전문성과 판결의 일관성을 향상시켜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특허권 등 권리 보호의 실효성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제고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입법취지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1998. 3. 2.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특허법원 개원 이래 특허소송제도의 구조에 관한 가장 큰 변화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특허법원이 특허권 등에 관한 제반 법적 분쟁 해결의 중심지로 자리매김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특허 분쟁에 관한 정보가 집적되고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심리 절차의 표준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및 실체에 관한 법리 등을 제공하는 기능 수행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   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※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이상민 국회의원의 입법취지 설명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, “1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심과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2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심 모두 특허법원의 전속관할로 집중시키는 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      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것이 맞지만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600" spc="-1" strike="noStrike" u="sng">
                <a:solidFill>
                  <a:srgbClr val="000000"/>
                </a:solidFill>
                <a:uFillTx/>
                <a:latin typeface="맑은 고딕"/>
              </a:rPr>
              <a:t>과도기적으로 당분간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1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심은 고등법원 소재지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개 지방법원에서 전속 관할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      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하도록 하고…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”  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장기적으로는 특허권 등 침해소송의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1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심도 특허법원의 전속관할로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9" name="직사각형 4"/>
          <p:cNvSpPr/>
          <p:nvPr/>
        </p:nvSpPr>
        <p:spPr>
          <a:xfrm>
            <a:off x="7740720" y="5977080"/>
            <a:ext cx="151272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85280" y="360000"/>
            <a:ext cx="875052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제도적</a:t>
            </a:r>
            <a:r>
              <a:rPr b="0" lang="ko-K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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현실적 한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85280" y="1368000"/>
            <a:ext cx="875052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절차의 이원화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또는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원화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)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및 각 절차의 이질성의 존속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행정소송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vs.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민사소송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침해소송에서의 권리남용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무효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)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항변으로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침해소송과 심결취소소송이 실체법적 쟁점을 공유함으로써 연결되어 있음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그러나 특허권자의 상대방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무효심판청구인 또는 침해소송의 피고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), 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제소 시기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소송절차 진행 단계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),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증거자료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무효 논거 등은 다를 수 있음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침해소송 및 심결취소소송의 진행 단계 별 경우의 수 복잡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유형 별 규범 제정을 통한 획일적 문제 해결에는 한계가 있음 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규범 또는 일반적 기준을 정하기보다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절차에 관한 기존 규정의 적정한 적용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2" name="슬라이드 번호 개체 틀 3"/>
          <p:cNvSpPr/>
          <p:nvPr/>
        </p:nvSpPr>
        <p:spPr>
          <a:xfrm>
            <a:off x="6967440" y="6005520"/>
            <a:ext cx="22687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1D3A2-3DA9-4902-B8B2-969ACE00B767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3" name="직사각형 4"/>
          <p:cNvSpPr/>
          <p:nvPr/>
        </p:nvSpPr>
        <p:spPr>
          <a:xfrm>
            <a:off x="7740720" y="5977080"/>
            <a:ext cx="151272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85280" y="330120"/>
            <a:ext cx="875052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Times New Roman"/>
              </a:rPr>
              <a:t>운영 방안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맑은 고딕"/>
                <a:ea typeface="굴림"/>
              </a:rPr>
              <a:t>- </a:t>
            </a:r>
            <a:r>
              <a:rPr b="1" lang="ko-KR" sz="2400" spc="-1" strike="noStrike">
                <a:solidFill>
                  <a:srgbClr val="000000"/>
                </a:solidFill>
                <a:latin typeface="맑은 고딕"/>
                <a:ea typeface="굴림"/>
              </a:rPr>
              <a:t>실권효 제도의 적절한 운용</a:t>
            </a:r>
            <a:br>
              <a:rPr sz="800"/>
            </a:b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189080" y="2087640"/>
          <a:ext cx="6840360" cy="3471840"/>
        </p:xfrm>
        <a:graphic>
          <a:graphicData uri="http://schemas.openxmlformats.org/drawingml/2006/table">
            <a:tbl>
              <a:tblPr/>
              <a:tblGrid>
                <a:gridCol w="1481040"/>
                <a:gridCol w="2335320"/>
                <a:gridCol w="1511280"/>
                <a:gridCol w="1512720"/>
              </a:tblGrid>
              <a:tr h="2872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요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실권방법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예외적 구제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729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제출기한 제한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(147</a:t>
                      </a:r>
                      <a:r>
                        <a:rPr b="1" lang="ko-KR" sz="13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조</a:t>
                      </a: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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특정 사항에 관한 주장제출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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 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증거신청의 기간 결정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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당사자의 의견 들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 넘긴 때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,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장 제출 또는 증거 신청 불가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당한 사유 소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242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실기한 공격</a:t>
                      </a: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</a:t>
                      </a:r>
                      <a:r>
                        <a:rPr b="1" lang="ko-KR" sz="13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방어방법 각하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(</a:t>
                      </a:r>
                      <a:r>
                        <a:rPr b="1" lang="ko-KR" sz="13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제</a:t>
                      </a: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149</a:t>
                      </a:r>
                      <a:r>
                        <a:rPr b="1" lang="ko-KR" sz="13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조</a:t>
                      </a: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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적시제출주의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46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조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)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위반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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당사자의 고의 또는 중과실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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송 완결 지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권 또는 당사자의 신청에 따라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,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공격방어방법의 각하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2873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변론준비기일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종결 효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(</a:t>
                      </a:r>
                      <a:r>
                        <a:rPr b="1" lang="ko-KR" sz="13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제</a:t>
                      </a: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285</a:t>
                      </a:r>
                      <a:r>
                        <a:rPr b="1" lang="ko-KR" sz="13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조</a:t>
                      </a: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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변론준비기일 진행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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종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변론준비기일에 제출하지 아니한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,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새로운 공격방어방법 제출 불가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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출로 인한 현저한 소송 지연 없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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 ‘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과실 없이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제출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’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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권조사사항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66" name="슬라이드 번호 개체 틀 3"/>
          <p:cNvSpPr/>
          <p:nvPr/>
        </p:nvSpPr>
        <p:spPr>
          <a:xfrm>
            <a:off x="6967440" y="6005520"/>
            <a:ext cx="22687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EF34D-3A2E-4B54-8C8F-F1C4AA859214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7" name="Rectangle 1"/>
          <p:cNvSpPr/>
          <p:nvPr/>
        </p:nvSpPr>
        <p:spPr>
          <a:xfrm>
            <a:off x="689040" y="1586160"/>
            <a:ext cx="316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4f81bd"/>
                </a:solidFill>
                <a:latin typeface="Wingdings"/>
                <a:ea typeface="Wingdings"/>
              </a:rPr>
              <a:t></a:t>
            </a:r>
            <a:r>
              <a:rPr b="0" lang="ko-KR" sz="1800" spc="-1" strike="noStrike">
                <a:solidFill>
                  <a:srgbClr val="4f81bd"/>
                </a:solidFill>
                <a:latin typeface="맑은 고딕"/>
                <a:ea typeface="굴림"/>
              </a:rPr>
              <a:t> </a:t>
            </a:r>
            <a:r>
              <a:rPr b="1" lang="ko-KR" sz="1800" spc="-1" strike="noStrike">
                <a:solidFill>
                  <a:srgbClr val="4f81bd"/>
                </a:solidFill>
                <a:latin typeface="맑은 고딕"/>
                <a:ea typeface="굴림"/>
              </a:rPr>
              <a:t>실권효 제도의 내용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8" name="Rectangle 1"/>
          <p:cNvSpPr/>
          <p:nvPr/>
        </p:nvSpPr>
        <p:spPr>
          <a:xfrm>
            <a:off x="2184120" y="5549040"/>
            <a:ext cx="4459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굴림"/>
              </a:rPr>
              <a:t>[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굴림"/>
              </a:rPr>
              <a:t>유해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굴림"/>
              </a:rPr>
              <a:t>, “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굴림"/>
              </a:rPr>
              <a:t>민사 항소심 제도의 개선 방안” 사법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굴림"/>
              </a:rPr>
              <a:t>6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굴림"/>
              </a:rPr>
              <a:t>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굴림"/>
              </a:rPr>
              <a:t>(2008. 12.), 108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굴림"/>
              </a:rPr>
              <a:t>면 참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굴림"/>
              </a:rPr>
              <a:t>수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굴림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굴림"/>
              </a:rPr>
              <a:t> ※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굴림"/>
              </a:rPr>
              <a:t>법률 명칭이 없는 것은 민사소송법의 조문을 말함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9" name="직사각형 7"/>
          <p:cNvSpPr/>
          <p:nvPr/>
        </p:nvSpPr>
        <p:spPr>
          <a:xfrm>
            <a:off x="7740720" y="5977080"/>
            <a:ext cx="151272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828720" y="1511280"/>
            <a:ext cx="840744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①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법원의 석명권 행사 충실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준비절차에서 필요한 사항에 관해 적극적인 석명과 입증 촉구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②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실권효에 대한 예고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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서면화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- ‘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침해소송 항소심 심리 매뉴얼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의 본문 및 첨부문서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준비명령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)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의 곳곳에 반영되어 있음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③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당사자의 의사 반영 또는 의견 개진 기회 보장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재판부와 당사자 및 당사자 상호간에 변론의 준비와 진행 등에 관하여 협의 및 합의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민소법 시행령 제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70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조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④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당사자의 악의 내지 신의칙 위반에 초점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실권효 제도의 취지는 심리의 충실을 희생하는 심리기간 단축이 아니라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의도적 지연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   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이나 무성의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준비부족 등으로 인한 합리적인 이유 없는 절차 지연을 막는 데에 있음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1" name="슬라이드 번호 개체 틀 3"/>
          <p:cNvSpPr/>
          <p:nvPr/>
        </p:nvSpPr>
        <p:spPr>
          <a:xfrm>
            <a:off x="6967440" y="6005520"/>
            <a:ext cx="22687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20868-B8EE-4A67-B1B1-2F3ABE33CC7B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2" name="Rectangle 1"/>
          <p:cNvSpPr/>
          <p:nvPr/>
        </p:nvSpPr>
        <p:spPr>
          <a:xfrm>
            <a:off x="255600" y="1011240"/>
            <a:ext cx="633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4f81bd"/>
                </a:solidFill>
                <a:latin typeface="Wingdings"/>
                <a:ea typeface="Wingdings"/>
              </a:rPr>
              <a:t></a:t>
            </a:r>
            <a:r>
              <a:rPr b="0" lang="ko-KR" sz="1800" spc="-1" strike="noStrike">
                <a:solidFill>
                  <a:srgbClr val="4f81bd"/>
                </a:solidFill>
                <a:latin typeface="맑은 고딕"/>
                <a:ea typeface="굴림"/>
              </a:rPr>
              <a:t> </a:t>
            </a:r>
            <a:r>
              <a:rPr b="1" lang="ko-KR" sz="1800" spc="-1" strike="noStrike">
                <a:solidFill>
                  <a:srgbClr val="4f81bd"/>
                </a:solidFill>
                <a:latin typeface="맑은 고딕"/>
                <a:ea typeface="굴림"/>
              </a:rPr>
              <a:t>실권효 제도의 적용 과정에서 고려할 사항 </a:t>
            </a:r>
            <a:r>
              <a:rPr b="1" lang="en-US" sz="1800" spc="-1" strike="noStrike">
                <a:solidFill>
                  <a:srgbClr val="4f81bd"/>
                </a:solidFill>
                <a:latin typeface="맑은 고딕"/>
                <a:ea typeface="굴림"/>
              </a:rPr>
              <a:t>(① </a:t>
            </a:r>
            <a:r>
              <a:rPr b="1" lang="ko-KR" sz="1800" spc="-1" strike="noStrike">
                <a:solidFill>
                  <a:srgbClr val="4f81bd"/>
                </a:solidFill>
                <a:latin typeface="맑은 고딕"/>
                <a:ea typeface="굴림"/>
              </a:rPr>
              <a:t>내지 ④</a:t>
            </a:r>
            <a:r>
              <a:rPr b="1" lang="en-US" sz="1800" spc="-1" strike="noStrike">
                <a:solidFill>
                  <a:srgbClr val="4f81bd"/>
                </a:solidFill>
                <a:latin typeface="맑은 고딕"/>
                <a:ea typeface="굴림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3" name="직사각형 5"/>
          <p:cNvSpPr/>
          <p:nvPr/>
        </p:nvSpPr>
        <p:spPr>
          <a:xfrm>
            <a:off x="7740720" y="5977080"/>
            <a:ext cx="151272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828720" y="1511280"/>
            <a:ext cx="840744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⑤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판단 이유를 가급적 구체적으로 설시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실기한 공격방어방법의 각하는 독립된 결정의 형식 또는 판결이유 중에서 판단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대법원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2010. 1. 14.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선고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2009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다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55808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판결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결정서 작성 또는 조서 기재 후 당사자에게 그 내용을 고지하는 방식이 바람직함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적용 기준의 명확화 및 예견 가능성 제고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      ※ ‘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정당한 사유’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, ‘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적시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適時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)’, ‘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중과실’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, ‘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소송 완결 지연’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, ‘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현저한 소송 지연’ 등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⑥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적용 사례의 축적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정리 및 공개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당사자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대리인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)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에 대한 교육 자료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민사 제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1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심 및 다른 민사항소심의 운영 참고 자료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절차에 관한 입법 참고 자료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5" name="슬라이드 번호 개체 틀 3"/>
          <p:cNvSpPr/>
          <p:nvPr/>
        </p:nvSpPr>
        <p:spPr>
          <a:xfrm>
            <a:off x="6967440" y="6005520"/>
            <a:ext cx="22687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7B78E-938C-4A47-AB0E-6D138AB7B8FF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6" name="Rectangle 1"/>
          <p:cNvSpPr/>
          <p:nvPr/>
        </p:nvSpPr>
        <p:spPr>
          <a:xfrm>
            <a:off x="255600" y="1011240"/>
            <a:ext cx="633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4f81bd"/>
                </a:solidFill>
                <a:latin typeface="Wingdings"/>
                <a:ea typeface="Wingdings"/>
              </a:rPr>
              <a:t></a:t>
            </a:r>
            <a:r>
              <a:rPr b="0" lang="ko-KR" sz="1800" spc="-1" strike="noStrike">
                <a:solidFill>
                  <a:srgbClr val="4f81bd"/>
                </a:solidFill>
                <a:latin typeface="맑은 고딕"/>
                <a:ea typeface="굴림"/>
              </a:rPr>
              <a:t> </a:t>
            </a:r>
            <a:r>
              <a:rPr b="1" lang="ko-KR" sz="1800" spc="-1" strike="noStrike">
                <a:solidFill>
                  <a:srgbClr val="4f81bd"/>
                </a:solidFill>
                <a:latin typeface="맑은 고딕"/>
                <a:ea typeface="굴림"/>
              </a:rPr>
              <a:t>실권효 제도의 적용 과정에서 고려할 사항 </a:t>
            </a:r>
            <a:r>
              <a:rPr b="1" lang="en-US" sz="1800" spc="-1" strike="noStrike">
                <a:solidFill>
                  <a:srgbClr val="4f81bd"/>
                </a:solidFill>
                <a:latin typeface="맑은 고딕"/>
                <a:ea typeface="굴림"/>
              </a:rPr>
              <a:t>(⑤, ⑥ )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7" name="직사각형 5"/>
          <p:cNvSpPr/>
          <p:nvPr/>
        </p:nvSpPr>
        <p:spPr>
          <a:xfrm>
            <a:off x="7740720" y="5977080"/>
            <a:ext cx="151272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85280" y="289080"/>
            <a:ext cx="875052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맑은 고딕"/>
                <a:ea typeface="굴림"/>
              </a:rPr>
              <a:t> </a:t>
            </a:r>
            <a:br>
              <a:rPr sz="2400"/>
            </a:br>
            <a:r>
              <a:rPr b="1" lang="ko-KR" sz="3200" spc="-1" strike="noStrike">
                <a:solidFill>
                  <a:srgbClr val="000000"/>
                </a:solidFill>
                <a:latin typeface="맑은 고딕"/>
                <a:ea typeface="굴림"/>
              </a:rPr>
              <a:t>운영 방안</a:t>
            </a:r>
            <a:r>
              <a:rPr b="1" lang="en-US" sz="3200" spc="-1" strike="noStrike">
                <a:solidFill>
                  <a:srgbClr val="000000"/>
                </a:solidFill>
                <a:latin typeface="맑은 고딕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맑은 고딕"/>
                <a:ea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</a:rPr>
              <a:t>침해소송을 중심으로 한 절차 진행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68360" y="1871640"/>
            <a:ext cx="875016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변론기일 이후 심리를 마친 쟁점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특히 청구항 중 해석에 다툼이 있는 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주요 용어에 관한 해석에 대해 구두 또는 서면으로 법원의 견해 표명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심리 매뉴얼 Ⅳ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. 2.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③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다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. 1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문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, ‘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첨부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6’) 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가급적 서면을 통해 정리가 후속 절차에서의 쟁점 집중에 도움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독립된 공격 또는 방어의 방법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그 밖의 중간의 다툼에 대한 중간판결도 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적극 활용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고려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제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201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조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※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서울고법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2008. 2. 19.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ﾠ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선고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ﾠ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2001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나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60578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ﾠ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중간판결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특허발명 중 일부 청구항 침해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)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       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서울고법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2010. 6. 23.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선고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2001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나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60578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판결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[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원고 측 청구기각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특허권 비침해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)]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       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대법원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ﾠ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2011. 9. 29.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ﾠ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선고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ﾠ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2010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다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65818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ﾠ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판결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[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상고기각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0" name="슬라이드 번호 개체 틀 3"/>
          <p:cNvSpPr/>
          <p:nvPr/>
        </p:nvSpPr>
        <p:spPr>
          <a:xfrm>
            <a:off x="6967440" y="6005520"/>
            <a:ext cx="22687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BBB3C-418E-41E3-962E-D5EDD70232C3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1" name="Rectangle 1"/>
          <p:cNvSpPr/>
          <p:nvPr/>
        </p:nvSpPr>
        <p:spPr>
          <a:xfrm>
            <a:off x="324000" y="1370160"/>
            <a:ext cx="46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4f81bd"/>
                </a:solidFill>
                <a:latin typeface="Wingdings"/>
                <a:ea typeface="Wingdings"/>
              </a:rPr>
              <a:t></a:t>
            </a:r>
            <a:r>
              <a:rPr b="0" lang="ko-KR" sz="1800" spc="-1" strike="noStrike">
                <a:solidFill>
                  <a:srgbClr val="4f81bd"/>
                </a:solidFill>
                <a:latin typeface="맑은 고딕"/>
                <a:ea typeface="굴림"/>
              </a:rPr>
              <a:t> </a:t>
            </a:r>
            <a:r>
              <a:rPr b="1" lang="ko-KR" sz="1800" spc="-1" strike="noStrike">
                <a:solidFill>
                  <a:srgbClr val="4f81bd"/>
                </a:solidFill>
                <a:latin typeface="맑은 고딕"/>
                <a:ea typeface="굴림"/>
              </a:rPr>
              <a:t>소송 진행 중 쟁점에 대한 중간 정리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2" name="직사각형 5"/>
          <p:cNvSpPr/>
          <p:nvPr/>
        </p:nvSpPr>
        <p:spPr>
          <a:xfrm>
            <a:off x="7740720" y="5977080"/>
            <a:ext cx="151272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468360" y="1871640"/>
            <a:ext cx="875016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기존 판례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대법원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2002. 6. 25.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선고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2000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후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1290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판결 등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에 따른 운영이 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침해소송과의 조화 측면에서 바람직함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새로운 증거로 전문적 기술 판단을 받는 일’에 관해 가장 큰 이해관계를 가진 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주체는 당사자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심판청구인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인데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, ‘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심결취소소송에서의 새로운 증거 추가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는 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    ‘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제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의 심판청구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라는 대안을 놓고 그가 선택한 결과임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특허권자의 우려는 ‘새로운 증거로 전문적 기술 판단을 받을 기회의 박탈’보다는 ‘불이익 판결 가능성의 증가’에 있음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실권효 제도의 적절한 적용은 재판의 지연에 따른 부작용 완화에 기여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4" name="슬라이드 번호 개체 틀 3"/>
          <p:cNvSpPr/>
          <p:nvPr/>
        </p:nvSpPr>
        <p:spPr>
          <a:xfrm>
            <a:off x="6967440" y="6005520"/>
            <a:ext cx="22687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DE3E7-AA19-4EB4-91B0-22A3538F8968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5" name="Rectangle 1"/>
          <p:cNvSpPr/>
          <p:nvPr/>
        </p:nvSpPr>
        <p:spPr>
          <a:xfrm>
            <a:off x="324000" y="1370160"/>
            <a:ext cx="46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4f81bd"/>
                </a:solidFill>
                <a:latin typeface="Wingdings"/>
                <a:ea typeface="Wingdings"/>
              </a:rPr>
              <a:t></a:t>
            </a:r>
            <a:r>
              <a:rPr b="0" lang="ko-KR" sz="1800" spc="-1" strike="noStrike">
                <a:solidFill>
                  <a:srgbClr val="4f81bd"/>
                </a:solidFill>
                <a:latin typeface="맑은 고딕"/>
                <a:ea typeface="굴림"/>
              </a:rPr>
              <a:t> </a:t>
            </a:r>
            <a:r>
              <a:rPr b="1" lang="ko-KR" sz="1800" spc="-1" strike="noStrike">
                <a:solidFill>
                  <a:srgbClr val="4f81bd"/>
                </a:solidFill>
                <a:latin typeface="맑은 고딕"/>
                <a:ea typeface="굴림"/>
              </a:rPr>
              <a:t>심결취소소송에서의 심리범위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6" name="직사각형 6"/>
          <p:cNvSpPr/>
          <p:nvPr/>
        </p:nvSpPr>
        <p:spPr>
          <a:xfrm>
            <a:off x="7740720" y="5977080"/>
            <a:ext cx="151272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23T06:15:51Z</dcterms:created>
  <dc:creator>s_Hyeonjin Kim (BKL)</dc:creator>
  <dc:description/>
  <dc:language>en-US</dc:language>
  <cp:lastModifiedBy>Myungkyu Lee (BKL)</cp:lastModifiedBy>
  <cp:lastPrinted>2016-06-12T02:54:33Z</cp:lastPrinted>
  <dcterms:modified xsi:type="dcterms:W3CDTF">2016-06-12T03:04:51Z</dcterms:modified>
  <cp:revision>283</cp:revision>
  <dc:subject/>
  <dc:title>PowerPoint 프레젠테이션</dc:title>
</cp:coreProperties>
</file>